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DAFD-052D-4E68-BEC2-64787C482C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icture: Birzeit University, Pal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lth beliefs: how patients access services, participate in treatment decisions and their social context all influence the management of chronic conditions and are important for health outcomes (Saks &amp; Allsop 2007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review of the relevant literature is also being undertaken, to set the context for this piece of work re: the health policy, health interventions and epidemiological work in the 4 partner countries plus Egypt, Jordan, Algeria and Moroc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362F-20E4-4EFC-BF0F-F1DEC449D7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AC2A-DADF-4A4A-A0BF-6D909A6839C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7342-8DEE-4D40-9236-9E9547AB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F228-E4F3-4263-BE20-F4C0BD93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3629-3F3C-4445-81CA-2D1853DF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22F2-7222-45DD-99E6-DA8C37147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F877-2A45-41CF-BBC5-EDD5DF2B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ACB5-5B95-4D78-9A78-D9CE0B65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3F2C-A28C-4C7B-8828-180F8312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FD0C-29E9-4132-AC0D-DD0AEE70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1B33-9A9F-4E33-A396-6729F8EA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DF1E-3659-44E5-A015-D1F6A0B9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A618-8238-4269-A057-D901E85C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E1E-6B37-434B-8F92-B0F2DCB8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24EC-1445-43B3-95E5-F9C6EFE4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670F-A369-4746-B711-CB060458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A228-554A-47FF-91C8-1388D30A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DC77-34AF-4962-A77C-9007301F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A94C-F5A7-427E-BD09-D05C7801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B5442-AB11-4C5A-998B-BD423009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F2886-AE32-4B30-AC2F-527D37DE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200F9-E09A-4C9A-84D2-D6A54985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4189C-F3AB-4B2F-B873-A11B7E9C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61156-A241-453A-A079-125E5E1D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568C-F1B1-4CFD-97D1-73AAB257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6B7FB-87F7-4BDD-BB35-B9F2228F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2FAB2-6F67-49A4-8DDE-65876F73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0E32D-09A6-4762-9AF2-78822E57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14AE2-FFEB-4F8A-8166-DBF58C46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38486-2C01-4DBC-8AD0-596CE853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4E049-5CAE-4AA1-9693-2CCA6560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15F8B-448C-439A-B8A3-CB233361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84A11-FD21-4641-AA85-289459D2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FB034-BDE5-4FB0-B6FB-D2F6A6E5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5FFA1-0E83-4C38-B86A-637A7101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CAA1-57B8-477C-997D-E3A3ADF1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17927-5C3F-4AA2-B3BE-FA6D8B98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38AE9-1200-443E-9056-7235E429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F3B1D-7966-48C0-9F5D-44DCBA89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5224B-389E-46CC-9D65-B7B9DF51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E6EC9-1AD6-4D9E-985E-0C794321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C5D9C-3B71-489C-8A8C-356566A1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1E675-BD38-445C-8210-1538427C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F1F6C-D813-4842-B070-0328ED46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8CC08-825B-42DC-B5BC-204396E2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456CA-EF35-4193-A5BC-68A831E2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8E51-026A-4580-B1F1-14F51179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991FF-00FC-4BEB-A890-026CA86D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C3F60-365C-4F9B-9096-92FC2A5C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5DA3E-42BC-4544-BE45-912864C5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B8652-AC06-4332-A9D4-65668707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87840-8CAA-4AE3-B503-C697656A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46945-B653-4D47-8ED7-7B5704CC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B8583-929A-4D9B-BA5E-B985A99B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3322A-9F99-4AD9-BC3D-E61BBB94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29358-47A1-4A58-9F25-79B0A12D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5B25F-18BB-480B-8FEE-C2FA1AC7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0B52-1173-4617-83EE-279BB500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F695E-EFAB-4CE0-B9FF-F71BA4B6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9BD99-40D0-4B1B-9951-1503170D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044E8-E334-4C11-A997-C56D366F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EB12B-C130-48E7-8BB8-30CE4BD5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AF2F2-BFE8-47EB-B2BD-40746EA4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D9E26-FC30-40F0-8CB6-929C224B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CFF97-F319-4035-9497-30E69088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FFF47-2E09-4105-8D71-337CD4A8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6C646-E746-4C16-BA77-1EA0800A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EE930-90E4-4558-A78E-E4264FFD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8EBB-EBE6-481C-80B6-283E8FAC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FF136-21EC-4110-BC3B-AE799E09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7CEBC-B337-4C58-821B-E76411D5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6C45C-D127-405B-BF28-D45E0776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D9CF9-DFF6-4890-9693-DEBDBEBA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5FDB9-6DA5-42ED-8BC9-9166A2B0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76483-0E65-49C6-8A06-C9379DEE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6F0C4-C72F-49C2-8A80-6BEDE5CE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FCE0F-55B1-4BB9-8302-A0D968B4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ADD68-0E88-44B6-99BB-2D935EE4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8471F-14CE-4858-BA5F-6EE44F8E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E4DE-840D-43A7-AD05-AA3FC857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555FC-108C-499E-9AFA-B1809530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7716F-F942-412E-9142-9F79BB12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11D14-2A08-47B3-B6B7-ED890EE7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F9417-EA26-405A-9622-1347E030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10A2C-E1FB-45BA-9C52-3EABFFF8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6FA4-F90E-4E81-9D67-36CD9361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5957-770E-4B56-8C41-101D718523CF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78C7-86A5-4166-81DF-91E9B292CA2E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A98D-D9F5-4306-9FC4-B0C67C898FC8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2A3F-CC4D-4EF4-BA59-3AA9E13812BC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9F3A-C682-491D-8757-E0995596F09D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2C78-9DEE-4F08-9B5F-711BEC452206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C734-AF7E-431A-BA5F-FD1CF369ED02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Health Policy Analysis Conceptual Framework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Shahaduz Zam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Newcastle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Diagram 1" descr=""/>
          <p:cNvPicPr/>
          <p:nvPr/>
        </p:nvPicPr>
        <p:blipFill>
          <a:blip r:embed="rId1"/>
          <a:stretch/>
        </p:blipFill>
        <p:spPr>
          <a:xfrm>
            <a:off x="0" y="109440"/>
            <a:ext cx="903456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Diagram 1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Diagram 1" descr=""/>
          <p:cNvPicPr/>
          <p:nvPr/>
        </p:nvPicPr>
        <p:blipFill>
          <a:blip r:embed="rId1"/>
          <a:stretch/>
        </p:blipFill>
        <p:spPr>
          <a:xfrm>
            <a:off x="176040" y="255600"/>
            <a:ext cx="864396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Diagram 1" descr=""/>
          <p:cNvPicPr/>
          <p:nvPr/>
        </p:nvPicPr>
        <p:blipFill>
          <a:blip r:embed="rId1"/>
          <a:stretch/>
        </p:blipFill>
        <p:spPr>
          <a:xfrm>
            <a:off x="23760" y="0"/>
            <a:ext cx="914400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n Example of using Policy triangle framework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Mediterranean studies of Cardiovascular diseases and Hyperglycaemia: analytical Modelling of Population Socio-economic transitions </a:t>
            </a:r>
            <a:r>
              <a:rPr b="0" i="1" lang="en-GB" sz="2400" spc="-1" strike="noStrike">
                <a:solidFill>
                  <a:srgbClr val="ff0000"/>
                </a:solidFill>
                <a:latin typeface="Candara"/>
              </a:rPr>
              <a:t>(MEDCHAMPS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73e87"/>
                </a:solidFill>
                <a:latin typeface="Candara"/>
              </a:rPr>
              <a:t>Developing a CVD and diabetes model for use within the project countries, in order to explain trends and predict likely future impact of diseas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73e87"/>
                </a:solidFill>
                <a:latin typeface="Candara"/>
              </a:rPr>
              <a:t>Defining the national policy context and characterising the health system for developing  policy options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MEDCHAMPS objectives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http://www.birzeit.edu/files/la/17240/pic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125280" y="-200160"/>
            <a:ext cx="9262800" cy="7058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Situation analysis (1)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TextBox 3"/>
          <p:cNvSpPr/>
          <p:nvPr/>
        </p:nvSpPr>
        <p:spPr>
          <a:xfrm>
            <a:off x="5334120" y="4068720"/>
            <a:ext cx="1676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Barri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1600200" y="3429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5"/>
          <p:cNvSpPr/>
          <p:nvPr/>
        </p:nvSpPr>
        <p:spPr>
          <a:xfrm>
            <a:off x="1600200" y="4383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belief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5181480" y="2279520"/>
            <a:ext cx="190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outco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358128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8"/>
          <p:cNvSpPr/>
          <p:nvPr/>
        </p:nvSpPr>
        <p:spPr>
          <a:xfrm>
            <a:off x="3352680" y="3800520"/>
            <a:ext cx="16002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Qualitative data from key stakehol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9"/>
          <p:cNvSpPr/>
          <p:nvPr/>
        </p:nvSpPr>
        <p:spPr>
          <a:xfrm>
            <a:off x="5334120" y="3429000"/>
            <a:ext cx="1676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Ga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0"/>
          <p:cNvSpPr/>
          <p:nvPr/>
        </p:nvSpPr>
        <p:spPr>
          <a:xfrm>
            <a:off x="1600200" y="247824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poli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1"/>
          <p:cNvSpPr/>
          <p:nvPr/>
        </p:nvSpPr>
        <p:spPr>
          <a:xfrm>
            <a:off x="5334120" y="4724280"/>
            <a:ext cx="167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Opportunities for implementing 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7391520" y="3790800"/>
            <a:ext cx="15238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Informs policy o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152280" y="3429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Analysis o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eft Brace 15"/>
          <p:cNvSpPr/>
          <p:nvPr/>
        </p:nvSpPr>
        <p:spPr>
          <a:xfrm>
            <a:off x="1295280" y="2819520"/>
            <a:ext cx="304920" cy="1904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1904760"/>
              <a:gd name="textAreaBottom" fmla="*/ 189684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"/>
                  <a:pt x="10800" y="288"/>
                </a:cubicBezTo>
                <a:lnTo>
                  <a:pt x="10800" y="10512"/>
                </a:lnTo>
                <a:cubicBezTo>
                  <a:pt x="10800" y="10656"/>
                  <a:pt x="5400" y="10800"/>
                  <a:pt x="0" y="10800"/>
                </a:cubicBezTo>
                <a:cubicBezTo>
                  <a:pt x="5400" y="10800"/>
                  <a:pt x="10800" y="10944"/>
                  <a:pt x="10800" y="11088"/>
                </a:cubicBezTo>
                <a:lnTo>
                  <a:pt x="10800" y="21312"/>
                </a:lnTo>
                <a:cubicBezTo>
                  <a:pt x="10800" y="2145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3" name="Straight Arrow Connector 17"/>
          <p:cNvCxnSpPr>
            <a:endCxn id="375" idx="1"/>
          </p:cNvCxnSpPr>
          <p:nvPr/>
        </p:nvCxnSpPr>
        <p:spPr>
          <a:xfrm flipV="1">
            <a:off x="3047760" y="2469600"/>
            <a:ext cx="533880" cy="425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84" name="Straight Arrow Connector 20"/>
          <p:cNvCxnSpPr>
            <a:stCxn id="375" idx="3"/>
            <a:endCxn id="374" idx="1"/>
          </p:cNvCxnSpPr>
          <p:nvPr/>
        </p:nvCxnSpPr>
        <p:spPr>
          <a:xfrm flipV="1">
            <a:off x="4724280" y="2463480"/>
            <a:ext cx="457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5" name="Elbow Connector 25"/>
          <p:cNvCxnSpPr>
            <a:stCxn id="376" idx="3"/>
            <a:endCxn id="379" idx="1"/>
          </p:cNvCxnSpPr>
          <p:nvPr/>
        </p:nvCxnSpPr>
        <p:spPr>
          <a:xfrm>
            <a:off x="4952520" y="4262400"/>
            <a:ext cx="381960" cy="1062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6" name="Elbow Connector 28"/>
          <p:cNvCxnSpPr>
            <a:stCxn id="376" idx="3"/>
            <a:endCxn id="377" idx="1"/>
          </p:cNvCxnSpPr>
          <p:nvPr/>
        </p:nvCxnSpPr>
        <p:spPr>
          <a:xfrm flipV="1">
            <a:off x="4952520" y="3612600"/>
            <a:ext cx="381960" cy="649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7" name="Elbow Connector 31"/>
          <p:cNvCxnSpPr/>
          <p:nvPr/>
        </p:nvCxnSpPr>
        <p:spPr>
          <a:xfrm flipV="1">
            <a:off x="4952520" y="4242600"/>
            <a:ext cx="381960" cy="1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Elbow Connector 34"/>
          <p:cNvCxnSpPr>
            <a:stCxn id="377" idx="3"/>
            <a:endCxn id="380" idx="1"/>
          </p:cNvCxnSpPr>
          <p:nvPr/>
        </p:nvCxnSpPr>
        <p:spPr>
          <a:xfrm>
            <a:off x="7009920" y="3612960"/>
            <a:ext cx="381960" cy="64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9" name="Elbow Connector 37"/>
          <p:cNvCxnSpPr>
            <a:stCxn id="379" idx="3"/>
            <a:endCxn id="380" idx="1"/>
          </p:cNvCxnSpPr>
          <p:nvPr/>
        </p:nvCxnSpPr>
        <p:spPr>
          <a:xfrm flipV="1">
            <a:off x="7009920" y="4252680"/>
            <a:ext cx="381960" cy="1072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Elbow Connector 40"/>
          <p:cNvCxnSpPr>
            <a:stCxn id="371" idx="3"/>
            <a:endCxn id="380" idx="1"/>
          </p:cNvCxnSpPr>
          <p:nvPr/>
        </p:nvCxnSpPr>
        <p:spPr>
          <a:xfrm flipV="1">
            <a:off x="7009920" y="4252320"/>
            <a:ext cx="38196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1" name="Elbow Connector 46"/>
          <p:cNvCxnSpPr>
            <a:stCxn id="378" idx="3"/>
            <a:endCxn id="376" idx="1"/>
          </p:cNvCxnSpPr>
          <p:nvPr/>
        </p:nvCxnSpPr>
        <p:spPr>
          <a:xfrm>
            <a:off x="2742840" y="2800080"/>
            <a:ext cx="610200" cy="1462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2" name="Elbow Connector 49"/>
          <p:cNvCxnSpPr>
            <a:stCxn id="373" idx="3"/>
            <a:endCxn id="376" idx="1"/>
          </p:cNvCxnSpPr>
          <p:nvPr/>
        </p:nvCxnSpPr>
        <p:spPr>
          <a:xfrm flipV="1">
            <a:off x="2742840" y="4262040"/>
            <a:ext cx="610200" cy="443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Elbow Connector 53"/>
          <p:cNvCxnSpPr>
            <a:stCxn id="372" idx="3"/>
            <a:endCxn id="376" idx="1"/>
          </p:cNvCxnSpPr>
          <p:nvPr/>
        </p:nvCxnSpPr>
        <p:spPr>
          <a:xfrm>
            <a:off x="2742840" y="3752640"/>
            <a:ext cx="610200" cy="510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4" name="Title 1"/>
          <p:cNvSpPr/>
          <p:nvPr/>
        </p:nvSpPr>
        <p:spPr>
          <a:xfrm>
            <a:off x="45720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Arial"/>
              </a:rPr>
              <a:t>Translating recommended interventions to different cultural set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Objective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Using established schematic frameworks of potentially effective policy measures and health system interventions for the prevention of CVD and Type 2 diabetes in order to guide data collection and analysi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Identify, collating and systematically reviewing all relevant documentary materials on policies and health services provisio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National situation analysis of current policy and health systems contex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Exploring perception and knowledge of relevant national policies through interviews with key informant from relevant organisations, including government, the health sector, private sector and non governmental organizations (including patient group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Exploring health beliefs with potential target groups, and determining whether these differ by population group.  Including by gender and socio economic group.   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Content Placeholder 3" descr=""/>
          <p:cNvPicPr/>
          <p:nvPr/>
        </p:nvPicPr>
        <p:blipFill>
          <a:blip r:embed="rId1"/>
          <a:stretch/>
        </p:blipFill>
        <p:spPr>
          <a:xfrm>
            <a:off x="324000" y="2676600"/>
            <a:ext cx="8648640" cy="3449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00"/>
                </a:solidFill>
                <a:latin typeface="Candara"/>
              </a:rPr>
              <a:t>What does a health policy analysis involve?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. Situation analyses of current policy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National/Regional/District overview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B. Health system contexts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Local orientation alongside the national orientatio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Two focuse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andara"/>
              </a:rPr>
              <a:t>The project therefore envisages appraising existing situations in partner countries on three different levels: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3" name="Diagram 2" descr=""/>
          <p:cNvPicPr/>
          <p:nvPr/>
        </p:nvPicPr>
        <p:blipFill>
          <a:blip r:embed="rId1"/>
          <a:stretch/>
        </p:blipFill>
        <p:spPr>
          <a:xfrm>
            <a:off x="66600" y="1395360"/>
            <a:ext cx="908388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480080" cy="348156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1: Situation on the level of conceptualiz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Diagram 1" descr=""/>
          <p:cNvPicPr/>
          <p:nvPr/>
        </p:nvPicPr>
        <p:blipFill>
          <a:blip r:embed="rId1"/>
          <a:stretch/>
        </p:blipFill>
        <p:spPr>
          <a:xfrm>
            <a:off x="249120" y="1908000"/>
            <a:ext cx="872352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71560" y="2349360"/>
            <a:ext cx="7408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Documentary materials on national policies, strategies, health systems and  financing concerning CVD and diabetes, including policy relevant to smoking, diet, physical activity and alcohol use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Relevant documents on pricing and taxation, agricultural and transport policies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Documentary materials on policies regarding national and local health service provisions, prescribing , prevention and risk factor management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National and international guidelines on policy measures and health care structures and interventions developed by WHO, World Bank, World Heart Foundation, International Diabetes Care Interventions. 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:    Document analys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547040" cy="34750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2: Situation on the level of Awareness and Commitmen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Implementers and practitioners from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Government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Private sector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NGOs at national, regional, provincial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ommunity level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:    Key informant interview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480080" cy="35370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3: Situation on the level of practic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Patient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are givers, medical practitioner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ccessed through sample of health care facilities in (a) urban and (b) rural settings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 : In depth interviews, Illness narratives, Observations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Merson, M., Black, R., Mills, A. (Eds) (2012) Global Health: Diseases, Programs, Systems and Policies.  London: Jones &amp; Bartlett Publisher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Ostrom, E. (2007) Institutional rational choice: as assessment of the institutional analysis and development framework. In Sabatier PA (ed) </a:t>
            </a:r>
            <a:r>
              <a:rPr b="0" i="1" lang="en-GB" sz="1800" spc="-1" strike="noStrike">
                <a:solidFill>
                  <a:srgbClr val="073e87"/>
                </a:solidFill>
                <a:latin typeface="Candara"/>
              </a:rPr>
              <a:t>Theories of the policy process</a:t>
            </a: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. Boulder, CO Westview Press pp 21-64.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Walt, G. et al.  (2008) Doing’ health policy analysis: methodological and conceptual reflections and challenges.  </a:t>
            </a:r>
            <a:r>
              <a:rPr b="0" i="1" lang="en-GB" sz="1800" spc="-1" strike="noStrike">
                <a:solidFill>
                  <a:srgbClr val="073e87"/>
                </a:solidFill>
                <a:latin typeface="Candara"/>
              </a:rPr>
              <a:t>Health Policy and Planning </a:t>
            </a: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23:308–317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Referenc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Diagram 1" descr=""/>
          <p:cNvPicPr/>
          <p:nvPr/>
        </p:nvPicPr>
        <p:blipFill>
          <a:blip r:embed="rId1"/>
          <a:stretch/>
        </p:blipFill>
        <p:spPr>
          <a:xfrm>
            <a:off x="12600" y="115920"/>
            <a:ext cx="903456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Content Placeholder 3" descr=""/>
          <p:cNvPicPr/>
          <p:nvPr/>
        </p:nvPicPr>
        <p:blipFill>
          <a:blip r:embed="rId1"/>
          <a:stretch/>
        </p:blipFill>
        <p:spPr>
          <a:xfrm>
            <a:off x="865080" y="1914480"/>
            <a:ext cx="7425000" cy="42116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onceptual frameworks provide a particular perspective, or lens, through which to examine a topic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Frameworks organize inquiry by identifying elements and relationships among elements that needs to be considered for theory building. </a:t>
            </a:r>
            <a:r>
              <a:rPr b="0" i="1" lang="en-GB" sz="2400" spc="-1" strike="noStrike">
                <a:solidFill>
                  <a:srgbClr val="073e87"/>
                </a:solidFill>
                <a:latin typeface="Candara"/>
              </a:rPr>
              <a:t>( Ostrom 2007)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framework helps to contextualize the ‘</a:t>
            </a:r>
            <a:r>
              <a:rPr b="0" lang="en-GB" sz="2400" spc="-1" strike="noStrike">
                <a:solidFill>
                  <a:srgbClr val="ff0000"/>
                </a:solidFill>
                <a:latin typeface="Candara"/>
              </a:rPr>
              <a:t>health policy environment.’</a:t>
            </a: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Content Placeholder 4" descr=""/>
          <p:cNvPicPr/>
          <p:nvPr/>
        </p:nvPicPr>
        <p:blipFill>
          <a:blip r:embed="rId1"/>
          <a:stretch/>
        </p:blipFill>
        <p:spPr>
          <a:xfrm>
            <a:off x="450720" y="1116000"/>
            <a:ext cx="8248680" cy="55659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Three major health policy analysis frameworks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Content Placeholder 3" descr=""/>
          <p:cNvPicPr/>
          <p:nvPr/>
        </p:nvPicPr>
        <p:blipFill>
          <a:blip r:embed="rId1"/>
          <a:stretch/>
        </p:blipFill>
        <p:spPr>
          <a:xfrm>
            <a:off x="914400" y="1407960"/>
            <a:ext cx="7772400" cy="4707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Policy Triangle Framework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14:26:51Z</dcterms:created>
  <dc:creator>nsz4</dc:creator>
  <dc:description/>
  <dc:language>en-US</dc:language>
  <cp:lastModifiedBy>User</cp:lastModifiedBy>
  <cp:lastPrinted>2013-05-28T10:45:51Z</cp:lastPrinted>
  <dcterms:modified xsi:type="dcterms:W3CDTF">2013-05-31T23:38:47Z</dcterms:modified>
  <cp:revision>21</cp:revision>
  <dc:subject/>
  <dc:title>Health Policy Analysis Framework</dc:title>
</cp:coreProperties>
</file>